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09B-F7D7-4A5F-8729-A471D5616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E76E-8454-4B24-8EA1-633F2F3A6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BE00-22A8-4B57-935D-7F1529E43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FA0F-81E9-4B67-9355-D1AAC0071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5A12-ABD6-4475-94BE-AEFE7E932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25CE-A355-4E53-A4DB-708273980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F961-AE08-4C8D-8F83-753C098FF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5AEA-6D5F-48CB-BAA0-0067EDF68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A7E3-E408-48EF-AE35-4B969C1E3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9ADF-20C8-4308-A2E9-3D188FCD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D6B3-424A-45C2-8D62-2AF840A81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239E-D6F9-4478-99D6-31781F20A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BF5-9000-4E69-8EE5-105E8111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790560"/>
            <a:ext cx="8229600" cy="167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maintenance less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18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5105520" cy="3828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029200" y="3429000"/>
            <a:ext cx="3886200" cy="173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 BEFORE YOU BEGIN,   YOU MUST CLICK ON THE POWERPOINT SLIDE SHOW SYMBOL AT THE BOTTOM LEFT CORNER OF YOUR COMPUTER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77120" y="4952880"/>
            <a:ext cx="685440" cy="685080"/>
            <a:chOff x="6477120" y="4952880"/>
            <a:chExt cx="685440" cy="685080"/>
          </a:xfrm>
        </p:grpSpPr>
        <p:grpSp>
          <p:nvGrpSpPr>
            <p:cNvPr id="46" name=""/>
            <p:cNvGrpSpPr/>
            <p:nvPr/>
          </p:nvGrpSpPr>
          <p:grpSpPr>
            <a:xfrm>
              <a:off x="6477120" y="4952880"/>
              <a:ext cx="685080" cy="685080"/>
              <a:chOff x="6477120" y="4952880"/>
              <a:chExt cx="685080" cy="685080"/>
            </a:xfrm>
          </p:grpSpPr>
          <p:sp>
            <p:nvSpPr>
              <p:cNvPr id="47" name=""/>
              <p:cNvSpPr/>
              <p:nvPr/>
            </p:nvSpPr>
            <p:spPr>
              <a:xfrm>
                <a:off x="6819480" y="54093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91240" y="5637960"/>
                <a:ext cx="456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477120" y="4952880"/>
                <a:ext cx="685080" cy="45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477120" y="4952880"/>
              <a:ext cx="685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95560" y="5118840"/>
              <a:ext cx="399960" cy="8352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335240"/>
            <a:ext cx="632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maintenance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sub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level workloads between maintenanc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support from the Sustainment B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 controlled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annibalization authorizat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host na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critical components by rotary air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705720" y="1770120"/>
          <a:ext cx="1295280" cy="44784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33520" y="9144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TRUE or FALSE?  The following methods can be used to overcome shortfalls in maintenance or Class 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4008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D    Slide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75248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62485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008080"/>
            <a:ext cx="563904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ze battle damage assessment and repair (BD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cuate, replace forward, and fix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-site maintenance procedures to fix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maintenance collection points (MCPs) close to road networks to replace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use of air to bring critical repair parts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recovery assets to provide broader coverage for attack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6477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8380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Which of the following maintenance support actions would you as the SPO planner see as more critical in support of offensive operations or defensive operation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553080" y="1828800"/>
          <a:ext cx="2133720" cy="44956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75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4" name=""/>
          <p:cNvGrpSpPr/>
          <p:nvPr/>
        </p:nvGrpSpPr>
        <p:grpSpPr>
          <a:xfrm>
            <a:off x="914400" y="1828800"/>
            <a:ext cx="5638680" cy="4495680"/>
            <a:chOff x="914400" y="1828800"/>
            <a:chExt cx="5638680" cy="4495680"/>
          </a:xfrm>
        </p:grpSpPr>
        <p:sp>
          <p:nvSpPr>
            <p:cNvPr id="285" name=""/>
            <p:cNvSpPr/>
            <p:nvPr/>
          </p:nvSpPr>
          <p:spPr>
            <a:xfrm>
              <a:off x="914400" y="182880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632448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2008080"/>
            <a:ext cx="563904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ze battle damage assessment and repair (BD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cuate, replace forward, and fix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-site maintenance procedures to fix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maintenance collection points (MCPs) close to road networks to replace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use of air to bring critical repair parts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recovery assets to provide broader coverage for attack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83808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Which of the following maintenance support actions would you as the SPO plan to implement in support of offensive operations/defensive operation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553080" y="1798560"/>
          <a:ext cx="2133720" cy="45259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914400" y="6477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B    Slides 37 &amp;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632448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18288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962520" y="1371600"/>
            <a:ext cx="4495680" cy="31240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NY SLIDES TO ENSURE THAT YOU UNDERST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MAINTENANCE SUPPORT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MISSION SUPPOR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CONSIDERATIONS FOR MAINTENAN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80880"/>
            <a:ext cx="80773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HECKS ON LEARNING FOR THE MAINTENANCE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6172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3" descr=""/>
          <p:cNvPicPr/>
          <p:nvPr/>
        </p:nvPicPr>
        <p:blipFill>
          <a:blip r:embed="rId1"/>
          <a:stretch/>
        </p:blipFill>
        <p:spPr>
          <a:xfrm>
            <a:off x="493560" y="1295280"/>
            <a:ext cx="3316320" cy="46483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038480" y="4952880"/>
            <a:ext cx="441972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ONTINUE ON TO THE NEXT LESSON OF YOUR SUPPORT OPERTIONS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029200"/>
            <a:ext cx="8153280" cy="114300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0576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up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back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82296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 Provide maintenance to units passing through or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specific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components or subcomponents at the point of repair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 site, or the unit maintenance collecting point (UMC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vacuation channels to push components and end item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stainment level of re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Both B and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Which statement(s) best describe the Replace Forward and Repair Rear maintenance principl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1055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641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2280" y="6491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FM 4-30.3   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6483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343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038480"/>
            <a:ext cx="8153640" cy="3682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 D.  Both B and C.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FM 4-30.3   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648320"/>
            <a:ext cx="8153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at are the four methods of ground maintenanc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bac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050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each of the four methods of maintenance suppor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324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FM 4-30.3     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641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75248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0958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748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end items as far forward as possible (fix forw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providing maintenance support to units passing through or assigned to a specific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aintenance support to like maintenance units that have excessive mainten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cuate maintenance requirements to a higher level of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99072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Which company provid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eld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BCT, BDE HQ, and Brigade Support Battalion;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its within the brigade support area;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inforcing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S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FMI 4-90.1    Slides 16 &amp;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2362320"/>
            <a:ext cx="7391520" cy="3124080"/>
            <a:chOff x="685800" y="2362320"/>
            <a:chExt cx="7391520" cy="3124080"/>
          </a:xfrm>
        </p:grpSpPr>
        <p:sp>
          <p:nvSpPr>
            <p:cNvPr id="79" name=""/>
            <p:cNvSpPr/>
            <p:nvPr/>
          </p:nvSpPr>
          <p:spPr>
            <a:xfrm>
              <a:off x="685800" y="2362320"/>
              <a:ext cx="7391520" cy="312408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32280" y="2613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1022400" y="2841840"/>
            <a:ext cx="6781680" cy="1903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2400" y="2841840"/>
                      <a:ext cx="67816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044800" y="444492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5120" y="457848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3895920"/>
              <a:ext cx="68580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89592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4160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1320" y="402768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72200" y="402768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2000" y="455796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1920" y="29941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41920" y="2994120"/>
              <a:ext cx="1143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75280" y="3375000"/>
              <a:ext cx="1447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9320" y="3451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346880" y="3450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057400" y="3733920"/>
            <a:ext cx="1828800" cy="144756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143000"/>
            <a:ext cx="8001000" cy="82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hich level of maintenance do field maintenance teams provide when their mission is to repair and return end items for immediate use by the supported un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189240"/>
            <a:ext cx="792504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Name two maintenance units (platoon or company) that provide maintenance support at the tactic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6324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3244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O A    FMI 4-90.1      Slides 14-16, 17, 18,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981080"/>
            <a:ext cx="8001000" cy="68580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Field Maintenance            ELO A    FM 4-30.3     Slide 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7925040" cy="17524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 Forward Support Company’s Field Maintenance Plato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ade Support Battalion’s Field Maintenance 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ment Brigade’s Support Maintenance 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066680"/>
            <a:ext cx="807732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Which maintenance manager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 the plans and policies for reparable exchange and Class IX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shop production and job status reports in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eld Maintenance 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ward Support Compan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SC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backlogs on critical weapon systems with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rigade S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and reviews the combat spares and coordinates critical parts status with the sustainment brig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0000"/>
            <a:ext cx="8077320" cy="100872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ade Support Battalion (BSB) SPO – SPO Maintenanc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60199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FMI 4-90.1      Slide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9907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draw arrows to depict supply distribution of Class IX from the Corps sustainment ba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te the modular sustaining maintenance organization and the key maintenance managers at the Corps, Division, and HBCT leve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4720" y="617220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124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ment BDE S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B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342720" y="2638440"/>
            <a:ext cx="2514600" cy="21333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2800" y="380376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8893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71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2786760" y="4249080"/>
            <a:ext cx="3319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614480" y="4120920"/>
            <a:ext cx="405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78520" y="6016680"/>
            <a:ext cx="646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34400" y="3667680"/>
            <a:ext cx="4888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20160" y="3122640"/>
            <a:ext cx="6476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45200" y="4390920"/>
            <a:ext cx="466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171200">
            <a:off x="7311600" y="4101840"/>
            <a:ext cx="1482840" cy="13460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924680" y="4311720"/>
            <a:ext cx="593640" cy="579240"/>
            <a:chOff x="7924680" y="4311720"/>
            <a:chExt cx="593640" cy="579240"/>
          </a:xfrm>
        </p:grpSpPr>
        <p:sp>
          <p:nvSpPr>
            <p:cNvPr id="127" name=""/>
            <p:cNvSpPr/>
            <p:nvPr/>
          </p:nvSpPr>
          <p:spPr>
            <a:xfrm>
              <a:off x="7924680" y="456876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0520" y="464976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9840" y="4311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rot="1401600">
            <a:off x="2994120" y="4776480"/>
            <a:ext cx="1017360" cy="12891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0" y="5861160"/>
            <a:ext cx="426960" cy="396360"/>
            <a:chOff x="4572000" y="5861160"/>
            <a:chExt cx="426960" cy="396360"/>
          </a:xfrm>
        </p:grpSpPr>
        <p:sp>
          <p:nvSpPr>
            <p:cNvPr id="132" name=""/>
            <p:cNvSpPr/>
            <p:nvPr/>
          </p:nvSpPr>
          <p:spPr>
            <a:xfrm>
              <a:off x="4676760" y="58611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600840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57680" y="6057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94000" y="4824360"/>
            <a:ext cx="591840" cy="503280"/>
            <a:chOff x="3294000" y="4824360"/>
            <a:chExt cx="591840" cy="503280"/>
          </a:xfrm>
        </p:grpSpPr>
        <p:sp>
          <p:nvSpPr>
            <p:cNvPr id="136" name=""/>
            <p:cNvSpPr/>
            <p:nvPr/>
          </p:nvSpPr>
          <p:spPr>
            <a:xfrm>
              <a:off x="3294000" y="502272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7920" y="50990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824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25760" y="3314880"/>
            <a:ext cx="561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9360" y="26766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59120"/>
            <a:ext cx="592200" cy="304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800600" y="5519880"/>
            <a:ext cx="685800" cy="488880"/>
            <a:chOff x="4800600" y="5519880"/>
            <a:chExt cx="685800" cy="488880"/>
          </a:xfrm>
        </p:grpSpPr>
        <p:sp>
          <p:nvSpPr>
            <p:cNvPr id="143" name=""/>
            <p:cNvSpPr/>
            <p:nvPr/>
          </p:nvSpPr>
          <p:spPr>
            <a:xfrm>
              <a:off x="5002920" y="55198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800600" y="5672160"/>
              <a:ext cx="685800" cy="336600"/>
              <a:chOff x="4800600" y="5672160"/>
              <a:chExt cx="685800" cy="336600"/>
            </a:xfrm>
          </p:grpSpPr>
          <p:sp>
            <p:nvSpPr>
              <p:cNvPr id="145" name=""/>
              <p:cNvSpPr/>
              <p:nvPr/>
            </p:nvSpPr>
            <p:spPr>
              <a:xfrm>
                <a:off x="4800600" y="5672160"/>
                <a:ext cx="685800" cy="33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42080" y="5763960"/>
                <a:ext cx="4024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01840" y="5793840"/>
                <a:ext cx="28296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001840" y="5793480"/>
                <a:ext cx="28296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1447920" y="3390840"/>
            <a:ext cx="593640" cy="322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63760" y="3471840"/>
            <a:ext cx="5619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3080" y="3133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15200" y="4489560"/>
            <a:ext cx="533160" cy="473040"/>
            <a:chOff x="7315200" y="4489560"/>
            <a:chExt cx="533160" cy="473040"/>
          </a:xfrm>
        </p:grpSpPr>
        <p:sp>
          <p:nvSpPr>
            <p:cNvPr id="153" name=""/>
            <p:cNvSpPr/>
            <p:nvPr/>
          </p:nvSpPr>
          <p:spPr>
            <a:xfrm>
              <a:off x="7315200" y="4657680"/>
              <a:ext cx="53316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5800" y="44895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886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76920" y="6029280"/>
            <a:ext cx="380880" cy="380880"/>
            <a:chOff x="4876920" y="6029280"/>
            <a:chExt cx="380880" cy="380880"/>
          </a:xfrm>
        </p:grpSpPr>
        <p:sp>
          <p:nvSpPr>
            <p:cNvPr id="157" name=""/>
            <p:cNvSpPr/>
            <p:nvPr/>
          </p:nvSpPr>
          <p:spPr>
            <a:xfrm>
              <a:off x="4876920" y="6181560"/>
              <a:ext cx="380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M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6029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 flipV="1">
            <a:off x="5219280" y="5946480"/>
            <a:ext cx="720" cy="24084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20120" y="4048200"/>
            <a:ext cx="426960" cy="396720"/>
            <a:chOff x="7620120" y="4048200"/>
            <a:chExt cx="426960" cy="396720"/>
          </a:xfrm>
        </p:grpSpPr>
        <p:grpSp>
          <p:nvGrpSpPr>
            <p:cNvPr id="161" name=""/>
            <p:cNvGrpSpPr/>
            <p:nvPr/>
          </p:nvGrpSpPr>
          <p:grpSpPr>
            <a:xfrm>
              <a:off x="7620120" y="4048200"/>
              <a:ext cx="426960" cy="396720"/>
              <a:chOff x="7620120" y="4048200"/>
              <a:chExt cx="426960" cy="396720"/>
            </a:xfrm>
          </p:grpSpPr>
          <p:sp>
            <p:nvSpPr>
              <p:cNvPr id="162" name=""/>
              <p:cNvSpPr/>
              <p:nvPr/>
            </p:nvSpPr>
            <p:spPr>
              <a:xfrm>
                <a:off x="7724880" y="4048200"/>
                <a:ext cx="21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620120" y="4195800"/>
                <a:ext cx="426960" cy="2491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695360" y="42451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09680" y="3209760"/>
            <a:ext cx="426960" cy="396720"/>
            <a:chOff x="2209680" y="3209760"/>
            <a:chExt cx="426960" cy="396720"/>
          </a:xfrm>
        </p:grpSpPr>
        <p:sp>
          <p:nvSpPr>
            <p:cNvPr id="166" name=""/>
            <p:cNvSpPr/>
            <p:nvPr/>
          </p:nvSpPr>
          <p:spPr>
            <a:xfrm>
              <a:off x="2314440" y="32097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09680" y="335736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286360" y="3438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3759120"/>
            <a:ext cx="533520" cy="304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02040" y="359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987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124080" y="5267160"/>
            <a:ext cx="533160" cy="473040"/>
            <a:chOff x="3124080" y="5267160"/>
            <a:chExt cx="533160" cy="473040"/>
          </a:xfrm>
        </p:grpSpPr>
        <p:sp>
          <p:nvSpPr>
            <p:cNvPr id="173" name=""/>
            <p:cNvSpPr/>
            <p:nvPr/>
          </p:nvSpPr>
          <p:spPr>
            <a:xfrm>
              <a:off x="3124080" y="5435280"/>
              <a:ext cx="53316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4680" y="52671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5663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2240" y="5392800"/>
            <a:ext cx="81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N 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N 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752560"/>
            <a:ext cx="2514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42720" y="2187360"/>
            <a:ext cx="2514600" cy="21333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2800" y="335268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43828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139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2786760" y="3798000"/>
            <a:ext cx="331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614840" y="3670200"/>
            <a:ext cx="404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8520" y="5565600"/>
            <a:ext cx="6462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634400" y="3216960"/>
            <a:ext cx="4888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20160" y="2671920"/>
            <a:ext cx="6476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84800" y="3406680"/>
            <a:ext cx="1481760" cy="1520280"/>
            <a:chOff x="1684800" y="3406680"/>
            <a:chExt cx="1481760" cy="1520280"/>
          </a:xfrm>
        </p:grpSpPr>
        <p:sp>
          <p:nvSpPr>
            <p:cNvPr id="189" name=""/>
            <p:cNvSpPr/>
            <p:nvPr/>
          </p:nvSpPr>
          <p:spPr>
            <a:xfrm flipV="1" rot="2759400">
              <a:off x="1631160" y="3905640"/>
              <a:ext cx="1600200" cy="49860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684800" y="3444120"/>
              <a:ext cx="1456560" cy="1482840"/>
              <a:chOff x="1684800" y="3444120"/>
              <a:chExt cx="1456560" cy="1482840"/>
            </a:xfrm>
          </p:grpSpPr>
          <p:sp>
            <p:nvSpPr>
              <p:cNvPr id="191" name=""/>
              <p:cNvSpPr/>
              <p:nvPr/>
            </p:nvSpPr>
            <p:spPr>
              <a:xfrm flipV="1" rot="2759400">
                <a:off x="1622520" y="3935880"/>
                <a:ext cx="1580760" cy="4978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2759400">
                <a:off x="1622520" y="3935880"/>
                <a:ext cx="1580760" cy="4978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435400" y="3187800"/>
            <a:ext cx="4870080" cy="1072800"/>
            <a:chOff x="2435400" y="3187800"/>
            <a:chExt cx="4870080" cy="1072800"/>
          </a:xfrm>
        </p:grpSpPr>
        <p:sp>
          <p:nvSpPr>
            <p:cNvPr id="194" name=""/>
            <p:cNvSpPr/>
            <p:nvPr/>
          </p:nvSpPr>
          <p:spPr>
            <a:xfrm>
              <a:off x="2435400" y="3256920"/>
              <a:ext cx="4870080" cy="100368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492280" y="3187800"/>
              <a:ext cx="4810320" cy="1001520"/>
              <a:chOff x="2492280" y="3187800"/>
              <a:chExt cx="4810320" cy="1001520"/>
            </a:xfrm>
          </p:grpSpPr>
          <p:sp>
            <p:nvSpPr>
              <p:cNvPr id="196" name=""/>
              <p:cNvSpPr/>
              <p:nvPr/>
            </p:nvSpPr>
            <p:spPr>
              <a:xfrm>
                <a:off x="2492280" y="3187800"/>
                <a:ext cx="4810320" cy="10015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92280" y="3187800"/>
                <a:ext cx="4810320" cy="10015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5245200" y="3940200"/>
            <a:ext cx="466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171200">
            <a:off x="7311600" y="3650760"/>
            <a:ext cx="1482840" cy="13464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924680" y="3860640"/>
            <a:ext cx="593640" cy="579240"/>
            <a:chOff x="7924680" y="3860640"/>
            <a:chExt cx="593640" cy="579240"/>
          </a:xfrm>
        </p:grpSpPr>
        <p:sp>
          <p:nvSpPr>
            <p:cNvPr id="201" name=""/>
            <p:cNvSpPr/>
            <p:nvPr/>
          </p:nvSpPr>
          <p:spPr>
            <a:xfrm>
              <a:off x="7924680" y="411768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0520" y="419868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9840" y="38606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1401600">
            <a:off x="2994120" y="4325400"/>
            <a:ext cx="1017360" cy="12891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0" y="5410080"/>
            <a:ext cx="426960" cy="397080"/>
            <a:chOff x="4572000" y="5410080"/>
            <a:chExt cx="426960" cy="397080"/>
          </a:xfrm>
        </p:grpSpPr>
        <p:sp>
          <p:nvSpPr>
            <p:cNvPr id="206" name=""/>
            <p:cNvSpPr/>
            <p:nvPr/>
          </p:nvSpPr>
          <p:spPr>
            <a:xfrm>
              <a:off x="4676760" y="54100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5557680"/>
              <a:ext cx="426960" cy="249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7680" y="5607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294000" y="4373640"/>
            <a:ext cx="591840" cy="503280"/>
            <a:chOff x="3294000" y="4373640"/>
            <a:chExt cx="591840" cy="503280"/>
          </a:xfrm>
        </p:grpSpPr>
        <p:sp>
          <p:nvSpPr>
            <p:cNvPr id="210" name=""/>
            <p:cNvSpPr/>
            <p:nvPr/>
          </p:nvSpPr>
          <p:spPr>
            <a:xfrm>
              <a:off x="3294000" y="457200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7920" y="46483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56000" y="4373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25760" y="2863800"/>
            <a:ext cx="561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00600" y="272736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408400"/>
            <a:ext cx="592200" cy="304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800600" y="5068800"/>
            <a:ext cx="685800" cy="488880"/>
            <a:chOff x="4800600" y="5068800"/>
            <a:chExt cx="685800" cy="488880"/>
          </a:xfrm>
        </p:grpSpPr>
        <p:sp>
          <p:nvSpPr>
            <p:cNvPr id="217" name=""/>
            <p:cNvSpPr/>
            <p:nvPr/>
          </p:nvSpPr>
          <p:spPr>
            <a:xfrm>
              <a:off x="5002920" y="50688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800600" y="5221080"/>
              <a:ext cx="685800" cy="336600"/>
              <a:chOff x="4800600" y="5221080"/>
              <a:chExt cx="685800" cy="336600"/>
            </a:xfrm>
          </p:grpSpPr>
          <p:sp>
            <p:nvSpPr>
              <p:cNvPr id="219" name=""/>
              <p:cNvSpPr/>
              <p:nvPr/>
            </p:nvSpPr>
            <p:spPr>
              <a:xfrm>
                <a:off x="4800600" y="5221080"/>
                <a:ext cx="685800" cy="33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42080" y="5312880"/>
                <a:ext cx="4024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01840" y="5342760"/>
                <a:ext cx="28296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001840" y="5342400"/>
                <a:ext cx="28296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1447920" y="2940120"/>
            <a:ext cx="593640" cy="322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63760" y="3021120"/>
            <a:ext cx="5619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3080" y="2682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15200" y="4038480"/>
            <a:ext cx="533160" cy="473040"/>
            <a:chOff x="7315200" y="4038480"/>
            <a:chExt cx="533160" cy="473040"/>
          </a:xfrm>
        </p:grpSpPr>
        <p:sp>
          <p:nvSpPr>
            <p:cNvPr id="227" name=""/>
            <p:cNvSpPr/>
            <p:nvPr/>
          </p:nvSpPr>
          <p:spPr>
            <a:xfrm>
              <a:off x="7315200" y="4206600"/>
              <a:ext cx="53316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5800" y="40384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4435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76920" y="5578560"/>
            <a:ext cx="380880" cy="380880"/>
            <a:chOff x="4876920" y="5578560"/>
            <a:chExt cx="380880" cy="380880"/>
          </a:xfrm>
        </p:grpSpPr>
        <p:sp>
          <p:nvSpPr>
            <p:cNvPr id="231" name=""/>
            <p:cNvSpPr/>
            <p:nvPr/>
          </p:nvSpPr>
          <p:spPr>
            <a:xfrm>
              <a:off x="4876920" y="5730840"/>
              <a:ext cx="380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M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9200" y="55785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 flipV="1">
            <a:off x="5219280" y="5495760"/>
            <a:ext cx="720" cy="24084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20120" y="3597120"/>
            <a:ext cx="426960" cy="396720"/>
            <a:chOff x="7620120" y="3597120"/>
            <a:chExt cx="426960" cy="396720"/>
          </a:xfrm>
        </p:grpSpPr>
        <p:grpSp>
          <p:nvGrpSpPr>
            <p:cNvPr id="235" name=""/>
            <p:cNvGrpSpPr/>
            <p:nvPr/>
          </p:nvGrpSpPr>
          <p:grpSpPr>
            <a:xfrm>
              <a:off x="7620120" y="3597120"/>
              <a:ext cx="426960" cy="396720"/>
              <a:chOff x="7620120" y="3597120"/>
              <a:chExt cx="426960" cy="396720"/>
            </a:xfrm>
          </p:grpSpPr>
          <p:sp>
            <p:nvSpPr>
              <p:cNvPr id="236" name=""/>
              <p:cNvSpPr/>
              <p:nvPr/>
            </p:nvSpPr>
            <p:spPr>
              <a:xfrm>
                <a:off x="7724880" y="3597120"/>
                <a:ext cx="21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20120" y="3744720"/>
                <a:ext cx="426960" cy="2491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695360" y="37940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209680" y="2759040"/>
            <a:ext cx="426960" cy="396720"/>
            <a:chOff x="2209680" y="2759040"/>
            <a:chExt cx="426960" cy="396720"/>
          </a:xfrm>
        </p:grpSpPr>
        <p:sp>
          <p:nvSpPr>
            <p:cNvPr id="240" name=""/>
            <p:cNvSpPr/>
            <p:nvPr/>
          </p:nvSpPr>
          <p:spPr>
            <a:xfrm>
              <a:off x="2314440" y="275904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290664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286360" y="2987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02040" y="313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81080" y="3308400"/>
            <a:ext cx="533520" cy="304920"/>
            <a:chOff x="1981080" y="3308400"/>
            <a:chExt cx="533520" cy="304920"/>
          </a:xfrm>
        </p:grpSpPr>
        <p:sp>
          <p:nvSpPr>
            <p:cNvPr id="245" name=""/>
            <p:cNvSpPr/>
            <p:nvPr/>
          </p:nvSpPr>
          <p:spPr>
            <a:xfrm>
              <a:off x="1981080" y="3308400"/>
              <a:ext cx="53352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1080" y="3537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124080" y="4816440"/>
            <a:ext cx="533160" cy="473040"/>
            <a:chOff x="3124080" y="4816440"/>
            <a:chExt cx="533160" cy="473040"/>
          </a:xfrm>
        </p:grpSpPr>
        <p:sp>
          <p:nvSpPr>
            <p:cNvPr id="248" name=""/>
            <p:cNvSpPr/>
            <p:nvPr/>
          </p:nvSpPr>
          <p:spPr>
            <a:xfrm>
              <a:off x="3124080" y="4984560"/>
              <a:ext cx="53316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4680" y="481644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24080" y="5213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66880" y="2438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ment BDE S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B 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2240" y="4952880"/>
            <a:ext cx="81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N 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N 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2301840"/>
            <a:ext cx="2514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6324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E   FMI 4-90.1   Slide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974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How would you draw arrows to depict supply distribution of Class IX from the Corps sustainment ba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839400" y="4347720"/>
            <a:ext cx="3450240" cy="42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4876200"/>
            <a:ext cx="968400" cy="7239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008080"/>
            <a:ext cx="56386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maintenance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sub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level workloads between maintenanc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support from the Sustainment B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 controlled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annibalization authorizat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host na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critical components by rotary air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6477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248520" y="1905120"/>
          <a:ext cx="2590560" cy="45716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457200" y="1066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r FALSE?  The following methods can be used to overcome shortfalls in maintenance or Class I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09480" y="1905120"/>
            <a:ext cx="5639040" cy="4572000"/>
            <a:chOff x="609480" y="1905120"/>
            <a:chExt cx="5639040" cy="4572000"/>
          </a:xfrm>
        </p:grpSpPr>
        <p:sp>
          <p:nvSpPr>
            <p:cNvPr id="267" name=""/>
            <p:cNvSpPr/>
            <p:nvPr/>
          </p:nvSpPr>
          <p:spPr>
            <a:xfrm>
              <a:off x="609480" y="1905120"/>
              <a:ext cx="563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6477120"/>
              <a:ext cx="563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moorem2</cp:lastModifiedBy>
  <dcterms:modified xsi:type="dcterms:W3CDTF">2006-01-25T14:45:21Z</dcterms:modified>
  <cp:revision>143</cp:revision>
  <dc:subject/>
  <dc:title>CHECKS ON LEARNING</dc:title>
</cp:coreProperties>
</file>